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B3FC-4B1E-44C9-92A3-4C5D8661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2AE7-EF01-49BC-AADD-D7DA026E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EF6-DD85-424B-90B4-2D637558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692-B8B6-4EBB-9325-AA6E391E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BD92-3304-487E-9EB8-D3A8BA66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7CFB-8ED2-4EC9-87F6-79245292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FD11-6FB5-451B-B6A3-6F223474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18B5-334A-4941-8F38-28A059FE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055-59D6-443A-A70E-C098F10F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DC75-4BCA-407D-95D8-014599B6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0372-5D38-498C-9363-668F4AFB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0C7-5FF0-452E-A12A-C36BBAD3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3637-9714-4C12-AF78-1F3B9457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0D9-1A35-4106-9448-13CEFC4A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C2BF-97D1-4536-99D9-69B918E2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8C13-F24E-493B-BE15-6E21E4F9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0D48-2F30-47AE-B0F7-E873DB80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14D-475C-4483-A238-D7BAF30E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90E-8472-44C5-9B23-D3B998D7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29C-41B6-48BA-B7CA-1DEAB42E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8C8-E945-4638-B866-28006A9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44E-7895-4020-A6C7-8CD1414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30A-51EB-429E-AECD-1CDEE774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3EB-7865-4100-AAC4-59295CAE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8093-2630-4E65-B429-DCA5F0CFA2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FBEF-0555-4438-B695-697936623DB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Sophomore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CADEMIC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st taking strateg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Ques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2590920"/>
            <a:ext cx="3968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Sophomore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ACADEMIC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umé wri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Search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CAP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4196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1-05-31T19:42:50Z</dcterms:modified>
  <cp:revision>9</cp:revision>
  <dc:subject/>
  <dc:title>Sophomore Class </dc:title>
</cp:coreProperties>
</file>